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07E8-6D8A-4491-A93D-DBFF2FA38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8C60-22D3-4CCD-ABF9-34F38E2E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DA84-C8C8-4B37-BA76-327A45A1D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12AD-88DB-46E6-9DB0-492DE1224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7866-65DA-4B2D-9538-EE3FCC92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0C19-23A3-4BCB-8680-94B611E7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D59A-262C-4D96-9481-D20681A5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0B91-B8D2-469D-A006-F2494F22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1DF6-FAAA-47E2-B998-3A5EFD06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51FC-61A6-4D41-87B6-95C876F1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0F61-8F2A-4C45-B22E-81B4E90A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D611-A79A-414D-9DBE-79D833CC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6724-CF4D-4447-8F64-22DD7CF8C8E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396720" y="11592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755640" y="1557360"/>
            <a:ext cx="7848720" cy="4688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Utworzona w dniu 12.09.1917 roku jako władza zwierzchnia dla terenów Królestwa Polskiego z inicjatywy władz niemieckich i austriacki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W październiku 1918 roku wydała Manifest do Narodu Polskiego zapowiadający odbudowanie niepodległego państw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W dniu 23.10.1918 roku powołała rząd Józefa Świeżyńskie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W wyniku słabości wewnętrznej oraz walk politycznych doszło do upadku gabinetu Świeżyńskiego oraz marginalizacji znaczenia Rady Regencyjn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7T11:58:18Z</dcterms:created>
  <dc:creator>rena</dc:creator>
  <dc:description/>
  <dc:language>en-US</dc:language>
  <cp:lastModifiedBy>IB</cp:lastModifiedBy>
  <dcterms:modified xsi:type="dcterms:W3CDTF">2013-03-14T17:25:36Z</dcterms:modified>
  <cp:revision>6</cp:revision>
  <dc:subject/>
  <dc:title>Rada Regencyjna</dc:title>
</cp:coreProperties>
</file>